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5818-8BBF-449C-91D9-7B59A8EA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CB4D-6A88-4F75-917A-764C72E3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CC56-84F1-4564-8159-C033EDBD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E5AA-B169-41C3-9D8F-B204D6E3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A67-572A-4421-8E2C-F79B1D6E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B2EB-9DFD-4CAC-A09A-8327CCDA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A602-8A6F-4F8C-B5A1-0BAB21AF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823E-F081-4E2A-B3D1-6134C0D3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D48E-915F-45B7-8A7D-55FB006E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9D4-BCA5-408B-A23B-C53E15F0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B487-8254-4236-9E45-237F4140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AE36-65C8-421C-86A5-78F31E3A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0D07-4140-47B3-A6D3-6B812BA90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685800" y="2895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iki.esipfed.org/index.php/AIP_AQ_Unified_Scenario" TargetMode="External"/><Relationship Id="rId2" Type="http://schemas.openxmlformats.org/officeDocument/2006/relationships/hyperlink" Target="http://wiki.esipfed.org/index.php/GEOSS_AIP_AQ_Scenario" TargetMode="External"/><Relationship Id="rId3" Type="http://schemas.openxmlformats.org/officeDocument/2006/relationships/hyperlink" Target="http://wiki.esipfed.org/index.php/GEOSS_AIP_AQ_Scenario" TargetMode="External"/><Relationship Id="rId4" Type="http://schemas.openxmlformats.org/officeDocument/2006/relationships/hyperlink" Target="http://wiki.esipfed.org/index.php/Talk:GEOSS_AIP_AQ_Scenario" TargetMode="External"/><Relationship Id="rId5" Type="http://schemas.openxmlformats.org/officeDocument/2006/relationships/hyperlink" Target="http://wiki.esipfed.org/index.php/GEOSS_AIP_AQ_Scenario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4720" y="19555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GEOSS ADC </a:t>
            </a:r>
            <a:br>
              <a:rPr sz="3600"/>
            </a:b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Air Quality &amp; Health Scenario </a:t>
            </a:r>
            <a:br>
              <a:rPr sz="3600"/>
            </a:b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E.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Environmental Protection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.johne@ep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6720" y="704880"/>
            <a:ext cx="8143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ir Quality Scenario </a:t>
            </a:r>
            <a:r>
              <a:rPr b="1" lang="en-US" sz="2800" spc="-1" strike="noStrike" u="sng">
                <a:solidFill>
                  <a:srgbClr val="005faa"/>
                </a:solidFill>
                <a:uFillTx/>
                <a:latin typeface="Arial"/>
              </a:rPr>
              <a:t>Development Proces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781280"/>
            <a:ext cx="8991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ario was developed iteratively by a collaborating multi-organiz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h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SIP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ik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elecons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iscu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develop the submitted scen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ommunity of Practi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o co-evolve with the AIP Pilot and other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871640" y="3025800"/>
            <a:ext cx="5429160" cy="3517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8-02-03T18:46:44Z</dcterms:modified>
  <cp:revision>227</cp:revision>
  <dc:subject/>
  <dc:title>Update on OGC involvement in GEOSS</dc:title>
</cp:coreProperties>
</file>